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5834-BB68-4267-823B-DE356E8C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9F4F-72D3-4266-BE83-F9C98AD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639B-45B5-41BD-91F2-D1125B4B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3355-0515-4FC8-AD6D-CA0F16F4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508-1D6B-4091-9C66-BDBE91CB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4B31-3799-4EA3-8757-5031608F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E90-EA03-4EAD-8E06-0A429F6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D62-0F75-4EC1-A6FD-AEB51498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CDEE-7D74-45D8-A1D3-A2508921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5BA-96BF-4C15-B096-3296889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A7A-A873-4B60-801A-90844BD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512D-3162-413E-8C26-E02B6E8E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815-A202-4ACB-8ED2-6EB6DEA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153-2C78-4089-B651-9411DE1F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733-F326-473C-99D2-E07AA8B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516-8BF2-4A16-86CB-16650D06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BF9-8FC3-443B-9B9B-CCE17898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1906-5163-41EF-9D79-94C31039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57F5-4E75-4EEA-8E8A-C214E026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FF7B-A7A4-4B83-A9C4-A674F716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75AB-AE2F-47A3-969B-9B24A808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2752-3080-406D-9D16-25E75E8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3D7F-2777-4815-B379-5876BB9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27C4-A193-4428-BB07-3A09F1A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FCD2-40AA-4F98-95F9-C4E1F3D48AC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C9BA-5171-4888-81B0-6D08C73C316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8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прибежище добр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 вечна Канар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 Господните реб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ъв изтече и вод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а те да ме спася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мият от грех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1793160"/>
            <a:ext cx="92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лзи да проливам аз непрестанно, всеки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кога не могат 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овете ми от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Ти, вечна Канар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спасяваш от грех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що аз в ръцете 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донасям, Госп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л съм - даваш облекл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що съм - даваш добр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аден, жаден – яст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ваш Ти и пит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раткотрайния живот, Господи, до мен бъ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изо в тоз плачевен до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ед съдния престо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рибежище добр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 вечна Канар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2-26T08:29:50Z</dcterms:modified>
  <cp:revision>66</cp:revision>
  <dc:subject/>
  <dc:title>Slide 1</dc:title>
</cp:coreProperties>
</file>